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1FD3-E380-40A7-B2D1-CEC6CCD6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3C48-CA6F-495C-9D6C-DC973CAB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9744-F570-4D38-BAC7-54997261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D96-4966-410F-8506-8EEA8A83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8879-76DF-4D29-B616-314E5875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E6E-A6D6-4F46-B7F6-B52E4ED8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7E85-C1FF-41E5-8482-1F41710A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FB06-BE34-4A45-AB46-1252DB33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D75A-2FF4-4AF8-A2DC-7C6742E6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E4E7-B666-451A-BEF3-9F1BE171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3F3C-8A97-4CA6-82B8-20E55AF9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D435-B3E9-4034-B384-2E526F03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B2D5-AAFD-47E6-90A9-0D20DEB1CA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cient Chi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hang Dynas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rt and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9" descr="T025106A"/>
          <p:cNvPicPr/>
          <p:nvPr/>
        </p:nvPicPr>
        <p:blipFill>
          <a:blip r:embed="rId1"/>
          <a:stretch/>
        </p:blipFill>
        <p:spPr>
          <a:xfrm>
            <a:off x="380880" y="1808280"/>
            <a:ext cx="3878280" cy="2154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pou"/>
          <p:cNvPicPr/>
          <p:nvPr/>
        </p:nvPicPr>
        <p:blipFill>
          <a:blip r:embed="rId2"/>
          <a:stretch/>
        </p:blipFill>
        <p:spPr>
          <a:xfrm>
            <a:off x="1442880" y="4216320"/>
            <a:ext cx="1668600" cy="2336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tical writing (columns from right to lef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Perfected metal-ca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Produced some of the finest bronze objects ever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Ivory and jade carv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Wove and colored sil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Excellent pottery makers (white cla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End of the Sha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fall of the Shang dynasty was much like that of the legendary Xia dynasty, the last king was a cruel tyra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ead of the people overthrowing the king, he was killed by a king from a rival kingdom, the Chou kingdom in 1000 B.C.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hou dynasty was part of the Shang kingdom; its civilization was a combination of the Shang culture and that of non-Chinese civilizat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** During the later dynasties (Qin- Ming, Chinese led the world in engineering, production, and technology)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The Shang Dynas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962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igration to the Yellow River Valley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rcheological evidence suggests that there were small agricultural settlements in the Chinese river valley as early as 4, 500 B.C.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 Shang Dynasty dates from 1,700 B.C.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ike the river valleys of the Nile and the Fertile Crescent, the Huang He river valley invited early settleme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13" descr="shang-map-large"/>
          <p:cNvPicPr/>
          <p:nvPr/>
        </p:nvPicPr>
        <p:blipFill>
          <a:blip r:embed="rId1"/>
          <a:stretch/>
        </p:blipFill>
        <p:spPr>
          <a:xfrm>
            <a:off x="4038480" y="1981080"/>
            <a:ext cx="4800600" cy="3640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eography of Ancient Chi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343400" y="175212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256400" indent="-3693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untains make up 1/3 of China’s ar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56400" indent="-3693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Himalayas close off China to the southw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56400" indent="-3693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western boarder is closed off by the Kunlun Shan and Tian Shan ran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56400" indent="-3693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 the east of these mountains lies the vast Gobi dese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56400" indent="-36936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ina’s coastline touches the Pacific Ocean, though not many of the early Chinese became seafar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7" descr="T028749A"/>
          <p:cNvPicPr/>
          <p:nvPr/>
        </p:nvPicPr>
        <p:blipFill>
          <a:blip r:embed="rId1"/>
          <a:stretch/>
        </p:blipFill>
        <p:spPr>
          <a:xfrm>
            <a:off x="152280" y="1936800"/>
            <a:ext cx="51055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uang He River Valley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38320" y="1447920"/>
            <a:ext cx="3505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282320" indent="-3769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ree major rivers drain eastern Chin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97400" indent="-33948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uang He (Hwong huh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97400" indent="-33948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angtz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97400" indent="-33948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i Jiang (Shee Jyang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82320" indent="-37692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Huang He flows nearly 3,000 miles, from the northern highlands to the Yellow S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7" descr="T026208A"/>
          <p:cNvPicPr/>
          <p:nvPr/>
        </p:nvPicPr>
        <p:blipFill>
          <a:blip r:embed="rId1"/>
          <a:stretch/>
        </p:blipFill>
        <p:spPr>
          <a:xfrm>
            <a:off x="0" y="1828800"/>
            <a:ext cx="6629400" cy="3683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-151200" y="5791320"/>
            <a:ext cx="713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Huang He (Yellow River) is associated with great sorrow and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eat blessing. The floods produced by this river were ofte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letely devastating, killing whole towns and cities of peopl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eography Affords Nationalis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ationalism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yalty and devotion to a nation;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especiall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 sense of national consciousness exalting one nation above all others and placing primary emphasis on promotion of its culture and interests as opposed to those of other natio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about the geography of China would help to foster nationalis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uling Pow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archy and Dynas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hang dyansty was an aristocrastic society, with a king ruling over the military nobilit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ritorial rulers were appointed by him in return for their support in his military campaigns. Underneath the aristocratic class was the priest clas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iests kept the records of the government and were also in charge of relig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wuding"/>
          <p:cNvPicPr/>
          <p:nvPr/>
        </p:nvPicPr>
        <p:blipFill>
          <a:blip r:embed="rId1"/>
          <a:stretch/>
        </p:blipFill>
        <p:spPr>
          <a:xfrm>
            <a:off x="5410080" y="1905120"/>
            <a:ext cx="30290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lig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5410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Shang worshipped the "Shang Ti."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god ruled as a supreme god over lesser gods, the sun, the moon, the wind, the rain, and other natural forces and pla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ghly ritualized, ancestor worship became a part of the Shang religio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king served as chief priest (theocrati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crifice to the gods and the ancestors was also a major part of the Shang religio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n a king died, hundreds of slaves and prisoners were often sacrificed and buried with him. People were also sacrificed in lower numbers when important events, such as the founding of a palace or temple, occurr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6" descr="grurel64"/>
          <p:cNvPicPr/>
          <p:nvPr/>
        </p:nvPicPr>
        <p:blipFill>
          <a:blip r:embed="rId1"/>
          <a:stretch/>
        </p:blipFill>
        <p:spPr>
          <a:xfrm>
            <a:off x="6019920" y="1295280"/>
            <a:ext cx="27525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inese Myth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24280" y="1904760"/>
            <a:ext cx="419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ver the centuries, the Chinese have developed many myths to explain their remote pa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most famous myth is regarding the founding of China’s Xia Dynasty. No record has yet supported the existence of this dynasty, thus the Shang is the first official dynas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6" descr="moon_china_sm2"/>
          <p:cNvPicPr/>
          <p:nvPr/>
        </p:nvPicPr>
        <p:blipFill>
          <a:blip r:embed="rId1"/>
          <a:stretch/>
        </p:blipFill>
        <p:spPr>
          <a:xfrm>
            <a:off x="1066680" y="1981080"/>
            <a:ext cx="3429000" cy="3327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1355760" y="582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rops and Foo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dynasty was based on agriculture; millet, wheat, and barley were the primary crops grown. In addition to the crops, silkworms, pigs, dogs, sheep, and oxen were rais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7" descr="farming"/>
          <p:cNvPicPr/>
          <p:nvPr/>
        </p:nvPicPr>
        <p:blipFill>
          <a:blip r:embed="rId1"/>
          <a:stretch/>
        </p:blipFill>
        <p:spPr>
          <a:xfrm>
            <a:off x="1066680" y="1676520"/>
            <a:ext cx="3359160" cy="4724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68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68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68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68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01:51:10Z</dcterms:created>
  <dc:creator>Erin Anderson</dc:creator>
  <dc:description/>
  <dc:language>en-US</dc:language>
  <cp:lastModifiedBy>mpstech</cp:lastModifiedBy>
  <dcterms:modified xsi:type="dcterms:W3CDTF">2014-09-08T14:19:38Z</dcterms:modified>
  <cp:revision>14</cp:revision>
  <dc:subject/>
  <dc:title>Ancient China</dc:title>
</cp:coreProperties>
</file>